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24D8-BFD1-4279-8AA4-4C814CB9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6D38-5098-4D72-803A-052D09F03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sm, industrialization (to get goods and ship goods), global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219-1B5E-4CE5-A6A7-E128BE6B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427-D404-4B41-8FBB-F5992DF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18E-FA7E-4E23-AFB4-33731BB6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286-675C-4B26-A264-1DB4AB2B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12B7-708B-4555-8F8F-92296DAE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05C5-E36C-414B-A49E-D3DDD22D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C3C2-312B-4E4F-A95E-5C19B90D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1832-E595-480B-9FB3-9E23B6B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C337-4408-4F3F-AD1C-8DEB6124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1C9D-FF3F-4D92-9C32-8051E70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4C8-2B0B-48A6-9BBA-D8D4226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F41-A0E5-484E-9A0E-A736AC77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4383-E7E6-4E71-9335-2C8A131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F79C-5C46-4123-AC82-156C55ED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CB6D-6A33-43B9-B375-8C61703E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FD5C-2885-4104-AA2F-86F54A63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4B38-6D01-4F97-8D56-A3CE0877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61D-B30B-41DB-AF1C-302632FF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D69-0E94-4AF0-9DA1-5D1CF3E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A1A-C3EE-42AE-BC1C-6CF5DBD9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4D4-4DD7-421C-9085-17227AA3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C53-9CBF-4CA3-8CDD-F2BCC6F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1B9-EA79-42F7-AF44-4926A20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979-DB96-483E-BE6C-03A867CB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7AF7-0CA8-470A-891D-8671F97E58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403B-C07C-43D6-91E1-CED4D1B019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ourworldindata.org/international-trad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merican Imperialis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nish American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mperialis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 what were these articles like?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6" descr="maine"/>
          <p:cNvPicPr/>
          <p:nvPr/>
        </p:nvPicPr>
        <p:blipFill>
          <a:blip r:embed="rId1"/>
          <a:stretch/>
        </p:blipFill>
        <p:spPr>
          <a:xfrm>
            <a:off x="304920" y="4038480"/>
            <a:ext cx="4647960" cy="2562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rst’s paper’s article about the sinking of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Ma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8" descr="destroyed maine"/>
          <p:cNvPicPr/>
          <p:nvPr/>
        </p:nvPicPr>
        <p:blipFill>
          <a:blip r:embed="rId2"/>
          <a:stretch/>
        </p:blipFill>
        <p:spPr>
          <a:xfrm>
            <a:off x="4114800" y="1905120"/>
            <a:ext cx="4572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censed by the actions of the Spanish gover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US took action…to defend Cuba and its quest for liberty and freedom (in theor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American Congress decides to act ... they pass th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ller Amendment – stated the US had no “sovereignty, jurisdiction, or control” over Cub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16292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r begi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in Philipp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ght with Emilio Aguinald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 quickly defeated the Spanish force … but stayed on in the Philipp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5" descr="manilla bay fight headline"/>
          <p:cNvPicPr/>
          <p:nvPr/>
        </p:nvPicPr>
        <p:blipFill>
          <a:blip r:embed="rId1"/>
          <a:stretch/>
        </p:blipFill>
        <p:spPr>
          <a:xfrm>
            <a:off x="4654440" y="914400"/>
            <a:ext cx="4489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mething is off about this pic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attle of San Juan Hill…Teddy Roosevelt and the Rough Rid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4" descr="TR and the rought riders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erican army was ill prepa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l unif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iled m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mm…spoiled m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00 died in battle in Cuba…5000 died of dysentery, typhoid, malaria, yellow fever (unrelated to newspaper yellow fever) and food poiso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S navy and army were domina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i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ve Cuba its independ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ded Puerto Rico, Pacific Islands, and the Philippines to the US for $200,000,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cuse me … there is something in the air thoug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lipinos fought against 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year fight for independ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lio Aguinaldo continued the f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ousands of lives were l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until 1946 that the Philippines are given their independ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ricans were conflicted about what should happen thou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5" descr="emilio aguinaldo"/>
          <p:cNvPicPr/>
          <p:nvPr/>
        </p:nvPicPr>
        <p:blipFill>
          <a:blip r:embed="rId1"/>
          <a:stretch/>
        </p:blipFill>
        <p:spPr>
          <a:xfrm>
            <a:off x="5908680" y="1447920"/>
            <a:ext cx="3235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 EXP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 adds Hawaii to its holdings and several other Pacific isla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een Liliuokalani tried to cast off the provisions set from her brother’s “Bayonet Constitution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w, to avoid any collision of armed forces and perhaps the loss of life, I do, under this protest, and impelled by said forces, yield my authority until such time as the government of the US shall undo the action of its representatives and reinstate me.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5" descr="liliuokalani"/>
          <p:cNvPicPr/>
          <p:nvPr/>
        </p:nvPicPr>
        <p:blipFill>
          <a:blip r:embed="rId1"/>
          <a:srcRect l="0" t="10170" r="0" b="8472"/>
          <a:stretch/>
        </p:blipFill>
        <p:spPr>
          <a:xfrm>
            <a:off x="5486400" y="1447920"/>
            <a:ext cx="345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Picture 6" descr="map of imperialism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720" y="23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 on the international S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191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 sent soldiers to several Central and Caribbean countries (Hondura, Guatamala, Panama, Dominican Republ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ineered separation of Panama from Colombia to advance Panama Ca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vernorship Philippines, Puerto Rico, major presence in Cuba (even today- Guantanamo Ba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ed Hawaii- Navy Bases and Dole Fru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nt Gunboat to Japan to open Trade (pre-civil Wa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ina- Sphere of Influence w/European pow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merica’s Place in the World-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et the Stag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roe Doctrine (1819)- Europe stay out of Amer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ental US- 1854- Current US bord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4’40- NO MORE FIGHT- Canada’s borders s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-Civil War- Southern designs to expand US and Slavery- ended w/Civil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ior Frontiers- No more new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ward’s Folly- Alaska—so wh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, Resources and Mark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ing up w/the Joneses- Europe inAfrica/A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 Rol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9140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are the US’s responsibility/obligation when in charg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ize? (educate? Values? Christianize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dom, Democracy? (set the road to independence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opriate? (take the oil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otprint? (how large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c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raq War- Imperialism? Self-Defense? American Exceptionalism? Busines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er 1- If you break it you own i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is Imperialism? Civilizer, Thief, Markets and Resources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ditions / Setting for Imperial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un never sets on the British Empir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this race (Anglo-Saxon) … the representative, let us hope, of the largest liberty, the purest Christianity, the highest civilization … will spread itself over the Earth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trialists turned to Africa, Asia, and Latin America for new customers and new sources of raw material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7640" y="396720"/>
            <a:ext cx="3048120" cy="554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5200" y="685440"/>
            <a:ext cx="1828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Race for global domin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’s the 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2" descr="https://lh6.googleusercontent.com/7-vxYh66Yn2vHUVxBHlVwNFvYj5xzTDlo4GXGYZjN8XrsjD7Y6ege8juKv89GQAwFpySfvUSiH9ch2hQZgNxM3CFSeLJ6qMyWOgbGgEZ2aQ_lu716mCpONbKsVH2Hb1qUw"/>
          <p:cNvPicPr/>
          <p:nvPr/>
        </p:nvPicPr>
        <p:blipFill>
          <a:blip r:embed="rId1"/>
          <a:stretch/>
        </p:blipFill>
        <p:spPr>
          <a:xfrm>
            <a:off x="38160" y="-3240"/>
            <a:ext cx="727704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72200" cy="46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s://ourworldindata.org/international-trade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76560" y="76320"/>
            <a:ext cx="3352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ets, Resources and the growth of international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lat World Global trade zooms- interdep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graph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2" descr="World-Trade-over-5-centuries"/>
          <p:cNvPicPr/>
          <p:nvPr/>
        </p:nvPicPr>
        <p:blipFill>
          <a:blip r:embed="rId2"/>
          <a:stretch/>
        </p:blipFill>
        <p:spPr>
          <a:xfrm>
            <a:off x="11160" y="1087560"/>
            <a:ext cx="54244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r of Choice or War of necessity? Conflict in Cuba grow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in in New World- Little left of it’s original Colonies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became free in 1830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ba last country in W. Hemisphere w/Slave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ba freedom fighter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in oppressively put down Cuban revo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terally starving!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’s the US interes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es the US get involv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ome 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nking of Ma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6" descr="headline-7"/>
          <p:cNvPicPr/>
          <p:nvPr/>
        </p:nvPicPr>
        <p:blipFill>
          <a:blip r:embed="rId1"/>
          <a:stretch/>
        </p:blipFill>
        <p:spPr>
          <a:xfrm>
            <a:off x="4184640" y="1219320"/>
            <a:ext cx="4959360" cy="563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eadline-6"/>
          <p:cNvPicPr/>
          <p:nvPr/>
        </p:nvPicPr>
        <p:blipFill>
          <a:blip r:embed="rId2"/>
          <a:srcRect l="0" t="0" r="0" b="34617"/>
          <a:stretch/>
        </p:blipFill>
        <p:spPr>
          <a:xfrm>
            <a:off x="0" y="2693880"/>
            <a:ext cx="40384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spapers’ role in the war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s- fuels the Fl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liam Randolph Hearst and Joseph Pulitzer were waging a newspaper circulation w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oking for the best stori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furnish the pictures and I’ll furnish the war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ellow journa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chard Outcalt –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e Yellow Ki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ew York Jour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yellow kid - richard oucalt's cartoon in NY Journal"/>
          <p:cNvPicPr/>
          <p:nvPr/>
        </p:nvPicPr>
        <p:blipFill>
          <a:blip r:embed="rId1"/>
          <a:stretch/>
        </p:blipFill>
        <p:spPr>
          <a:xfrm>
            <a:off x="5584680" y="1592280"/>
            <a:ext cx="3584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1:51:05Z</dcterms:created>
  <dc:creator>Darien Public Schools</dc:creator>
  <dc:description/>
  <dc:language>en-US</dc:language>
  <cp:lastModifiedBy>Balazs, Stephen</cp:lastModifiedBy>
  <dcterms:modified xsi:type="dcterms:W3CDTF">2017-03-13T14:10:41Z</dcterms:modified>
  <cp:revision>21</cp:revision>
  <dc:subject/>
  <dc:title>American Imperialism</dc:title>
</cp:coreProperties>
</file>